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A1A25D-33CC-4A47-A9DD-32F9F0F0B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B6F5A-CFFE-412F-B7F2-285A21FAAD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D1A91-29D2-4EF6-812E-0FDC908093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C3EBA-CC1A-4670-90A9-F728E17F1C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64FE7-E8D0-425F-8637-85AB057542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2D006-222E-44FC-B7BE-C04C262670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055FC4-3B45-4207-BB54-23B35061C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77A42-91FD-456A-B65B-F9A6A35120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F35F4-1F79-4AAD-9E5C-4C07776722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57AAB-EFBF-4293-BC34-3F3424583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4D0B4-09DC-48E9-8816-8E8AFA66F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9EC8-8D7A-4BDB-9222-918EF7E042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nl-NL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46E34F-0D99-40A7-96C6-6A82D76C8E1F}" type="slidenum">
              <a:rPr b="0" lang="nl-NL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V validation plate #1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TextBox 5"/>
          <p:cNvSpPr/>
          <p:nvPr/>
        </p:nvSpPr>
        <p:spPr>
          <a:xfrm>
            <a:off x="605520" y="1341360"/>
            <a:ext cx="8064360" cy="47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Format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: 384 amplicons ( two 384-well plates of primer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nts: 4 different types of SVs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andem duplications ( evertions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Methods: 4 SV calling algorithm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-2-3-SV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ublic dat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eletion list published by 1000 genomes project (October 2010; trio + low coverage 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election creteria &amp; amplicon desig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TextBox 5"/>
          <p:cNvSpPr/>
          <p:nvPr/>
        </p:nvSpPr>
        <p:spPr>
          <a:xfrm>
            <a:off x="539640" y="1341360"/>
            <a:ext cx="7993080" cy="366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e consider that everything which was found in 1000 genome projects represents positive calls.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GoNL SV calls that are made by several tools are likely to be true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the first verification we want to see how to improve  calling for the tools used for GoNL SV analysis.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mplicon sizes are between 200 and 500 bas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lt;= 300 bp we fully resequence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f SV allele is &gt; 300 bp we resequence only 5-prime breakpoint from i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260280"/>
            <a:ext cx="7772400" cy="579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Randomly selected set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TextBox 5"/>
          <p:cNvSpPr/>
          <p:nvPr/>
        </p:nvSpPr>
        <p:spPr>
          <a:xfrm>
            <a:off x="826920" y="1700280"/>
            <a:ext cx="24498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Deletions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Ev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DWAC-Seq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TextBox 4"/>
          <p:cNvSpPr/>
          <p:nvPr/>
        </p:nvSpPr>
        <p:spPr>
          <a:xfrm>
            <a:off x="4716360" y="1773360"/>
            <a:ext cx="2448000" cy="28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sert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version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Breakdancer (28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indel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123SV (27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TextBox 6"/>
          <p:cNvSpPr/>
          <p:nvPr/>
        </p:nvSpPr>
        <p:spPr>
          <a:xfrm>
            <a:off x="1112400" y="5732640"/>
            <a:ext cx="250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Total: 384 SV candidate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360" y="188640"/>
            <a:ext cx="7772400" cy="577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Verification with Ion torrent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2" descr=""/>
          <p:cNvPicPr/>
          <p:nvPr/>
        </p:nvPicPr>
        <p:blipFill>
          <a:blip r:embed="rId1"/>
          <a:stretch/>
        </p:blipFill>
        <p:spPr>
          <a:xfrm>
            <a:off x="611280" y="738360"/>
            <a:ext cx="7934400" cy="5570280"/>
          </a:xfrm>
          <a:prstGeom prst="rect">
            <a:avLst/>
          </a:prstGeom>
          <a:ln w="0">
            <a:noFill/>
          </a:ln>
        </p:spPr>
      </p:pic>
      <p:sp>
        <p:nvSpPr>
          <p:cNvPr id="51" name="TextBox 6"/>
          <p:cNvSpPr/>
          <p:nvPr/>
        </p:nvSpPr>
        <p:spPr>
          <a:xfrm>
            <a:off x="283680" y="6488280"/>
            <a:ext cx="604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rimer ~ 23 bp (+tail). Breakpoint should be close to the primer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0-13T12:34:52Z</dcterms:created>
  <dc:creator>Vityay</dc:creator>
  <dc:description/>
  <dc:language>en-US</dc:language>
  <cp:lastModifiedBy>Vityay</cp:lastModifiedBy>
  <dcterms:modified xsi:type="dcterms:W3CDTF">2011-10-13T13:06:38Z</dcterms:modified>
  <cp:revision>2</cp:revision>
  <dc:subject/>
  <dc:title>SV validation plate #1</dc:title>
</cp:coreProperties>
</file>