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5FF6-7296-4B4C-A4A2-06F2E18F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23CF-AD2D-4657-BF14-0E6BD3A9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6E3E-5713-4825-9F26-F1DCA8B4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7C49-B778-4931-92DD-EFB67E85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DEF4-DD48-44D1-9497-DA57BE2A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DD6B-90EF-4887-ADB7-DE875471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EE0E-89CD-4176-86A3-4C5EFC6C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8F2E-B82B-4D04-BD8E-40729335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981C-F5D4-4B12-A0F7-925FB758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4D6B-C589-4C72-BC00-4D0C0E03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333B-4993-47E6-81F9-762C6FB1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1588-A85D-4983-A2FF-E5AE2A5A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44E1-E1D7-4877-828A-60AB7F1A08A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V validation plate #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05520" y="134136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384 amplicons ( two 384-well plates of primer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nts: 4 different types of SV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ndem duplications ( evertion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thods: 4 SV calling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-2-3-S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blic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 list published by 1000 genomes project (October 2010; trio + low coverage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ion creteria &amp; amplicon desig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539640" y="134136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onsider that everything which was found in 1000 genome projects represents positive call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NL SV calls that are made by several tools are likely to be tr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first verification we want to see how to improve  calling for the tools used for GoNL SV analy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plicon sizes are between 200 and 500 b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lt;= 300 bp we fully resequenc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gt; 300 bp we resequence only 5-prime breakpoint from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ndomly selected s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826920" y="1700280"/>
            <a:ext cx="24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le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716360" y="1773360"/>
            <a:ext cx="24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r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112400" y="573264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tal: 384 SV candid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rification with Ion torr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738360"/>
            <a:ext cx="7934400" cy="5570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83680" y="6488280"/>
            <a:ext cx="60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er ~ 23 bp (+tail). Breakpoint should be close to the pri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2:34:52Z</dcterms:created>
  <dc:creator>Vityay</dc:creator>
  <dc:description/>
  <dc:language>en-US</dc:language>
  <cp:lastModifiedBy>Vityay</cp:lastModifiedBy>
  <dcterms:modified xsi:type="dcterms:W3CDTF">2011-10-13T13:06:38Z</dcterms:modified>
  <cp:revision>2</cp:revision>
  <dc:subject/>
  <dc:title>SV validation plate #1</dc:title>
</cp:coreProperties>
</file>